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502A-61E8-477A-A46B-1B14EDF38B3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09B5-AE7E-43E4-9739-F39399B2483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F2F2-35EF-4038-AC7D-5381A875A6C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1094-2AC6-401D-AD95-5394899101C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E67E-724F-4E86-84B1-8DCCFA38A00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9261-B409-40B2-B0D9-317B01BB9A4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FB3B-39A1-43B8-8157-460E011FD52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199-1E9A-451E-9AD7-711228A2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4114-C4A6-4C7D-ADD3-0489B8C8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9DB24-4EF7-4A93-997E-94EA347E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697B9-2771-4AAE-81F9-279EEF3E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93415-B886-4BAE-84FB-023E6338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7E72A-86BA-4365-B9A6-072EA78A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86677-6767-4F27-AEF2-B592B2DC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60339-6898-48FB-941D-C71E46E8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97961-795C-4F5D-8599-C4C233EC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549CB-D21F-4010-9829-380AECDE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52F7F-2BCB-4AAB-968B-9A09E2CF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B1F9E-4A75-4EC8-BE9E-30E59574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804-1ADD-437E-884A-30519E2A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1477E-E969-45A1-9109-9F22B6CE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D1D2E-4AE2-4A1B-AAC7-09873F56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3A83E-FA27-4017-AFBE-DA9601FA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4BC35-86F7-4210-AC86-66A55A25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A01EB-11C3-403C-923E-2FE82852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AB361-E800-4404-AC0A-256B40CC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C014A-2B72-44F9-AB4D-65D81E76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F56FD-758B-4E04-9511-E6BB5418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AADED-993D-464A-ABAD-7C06B001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9155C-B221-448F-ADC5-A70BB7FC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7C7-37FD-4E98-ABE0-E1F4B3BE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1910F-6C86-48BD-ACBA-BBC5FF1B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7E9CA-1DFA-41BC-9634-C8A260E4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88F2A-44E2-4155-A8DD-FDB2F74C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13672-D840-496A-9FAA-A2358B90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E2D20-6573-42C7-BECC-8E01C696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81542-EB32-4FD3-9AD0-8E2CE384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7C0D0-8467-4D31-A6C0-7FC3462D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4A954-F3E1-4197-9B2E-FC6D7A69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65584-3DCB-4CDB-977F-2F66F96D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34853-7412-413B-ADCD-C2640319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948E-B486-44AE-A8CB-6E1643B1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1159F-E9B0-49FF-B0A9-C7E7634C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8FB27-2599-451C-93AE-6B9DC9B6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54851-2915-4874-BC42-4BDFC119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2DDE3-7DD7-4EAB-98C0-B1C39C95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BC03A-D4AC-47CD-A1B9-0364A5CB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71959-4BD0-42CF-A949-7B897FC2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B8AF0-7138-4F27-9913-0E0E6354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5A3BB-0598-40F3-B12E-CD7D0850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B5A6A-B195-49A1-B1EB-C5340CD3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BB323-2BCE-4CCF-9206-846070CF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756A-41AF-4301-918C-B18588AB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6C875-43F6-46F9-AC1C-A2C2B964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AEEBD-5310-460E-859C-7E8219DE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15F72-426B-4A72-BAEF-0FED5767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2BE42-5C97-4E9A-835D-295816D1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27135-AC28-4425-A5A2-C0202E85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4AE3F-0530-420F-A3E8-B7B81FFF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C7ED9D-F6A9-4952-B1D9-F339634D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D1F5E-2EFD-4FC0-A744-D62505EF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CD114-E2A0-4A7A-B685-C4865070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39F14-AD0D-4D99-98B8-96A8D598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AF5A-D893-4E3C-83C0-2BAA8DBF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59B9F-FFC7-4CA1-A8D8-35DBD170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154FA-12DC-4E83-B412-C92CDD19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BCFA1-E587-4EAB-A2A7-5F7B0CB3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A675F-149B-42BC-82EA-8A3F96AF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C9F71B-6F00-4C10-A892-7DA28540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A2DE1-B913-4CA8-87B2-A83E4F81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A813F-F5B4-4133-9A30-9CEE3E8F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657F-65D2-4AB8-9F06-67F4B8CC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4508-93BE-45B2-B51C-0AE2B498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6322-5BF2-4170-9301-A672FF31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5344-FE86-47EA-98B8-9901FADE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0B1-CD02-408D-B8D5-E63A88D2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C24C-3B3A-4345-8A78-DB7BA911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F0A0-14FF-4233-A3D2-CFA4C006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3E33-B12B-4148-B55E-E54C73D2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B858-5791-4DBF-A1F1-140820A1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A475-6ABB-467F-876D-B4642408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780A2-427E-4DA2-AAA1-DC373307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51D59-FC39-444A-A883-47650899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2F02F-4EBF-4BA9-A456-8928A3E3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87BF0-8188-49EC-85CE-35B40163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DB4DB-114F-48A0-A957-B578FA5D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393-7EEB-4CDA-9F55-AF5D4D30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970CB-7D96-459D-BD48-E0C09C50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21C8A-6587-4DD4-B70A-54B1226C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CFA73-62CF-41EB-BBFD-037CD3BB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3792D-1E67-4DFE-B1CB-FDC8B6F8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A7099-F8B2-4F8E-8394-2BA46332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AA8A6-92E7-40E9-91ED-85FB8BF2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FC426-8095-4EB9-B842-2D2698C3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A8458-FA84-4E6C-A21D-D13347C0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11820-F579-48B5-BCAF-B5A30A7A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00B56-A013-493D-818B-DC004EB5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F01-BBEF-42DA-A919-00859FE8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E3C95-8682-4C1B-B2C3-80E5F1B4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74B46-5BB8-4D0B-A430-DE925D6B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210CF-B2F4-4C0B-A764-F19EA0D3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17850-3AAE-480A-81C5-A8B4CF69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423B8-2107-412B-B768-25FA0E37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DF0A3-34D3-4816-87CE-FCCFBCBE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CEEA0-F68B-4D8D-A5FC-51952810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6B4EA-0CAC-437D-B349-49974B86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95782-B4FB-41F0-A508-0CFDA1BE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53235-17FA-4861-B18E-40670550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066-4C72-427B-851F-FECBB866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53936-23B5-45E4-80D9-FBE9A6CF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84305-116C-42D5-B8DC-39E2B457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366DF-3FA4-4C81-A46B-6CE1AE38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4CA4D-9C54-4D80-8187-2B124A1E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7C010-85B6-4CFF-9FCE-369633A9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7F341-18B8-4D29-8968-DDAEEFAE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CF6C3-6290-43B0-ABCD-E3689425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E5629-C00E-47D1-B125-7FFC9A78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624AF-7E21-4BF5-892B-E83423CA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89493-C7E9-4838-827F-EB0C5602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4ED1-97B0-43A3-9375-4F34E169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E4796-7318-45A7-B4F1-6BF8AC59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38C2B-5491-4169-8DB3-CC1FB845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666A7-3139-440F-855A-305626A3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319CE-E575-470A-A2B8-2ED0EB0A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78AEE-1EF2-4056-A185-39F3C741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4CBA2-46F1-4F83-8BB6-F7132880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E127C-4931-42D1-9E98-EAB73EF2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B2439-B68E-402C-A652-849928E7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C04E2-1E43-4136-881C-F6788606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53F34-A180-4A00-A52E-023D1246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366C-AED6-4E4A-B829-561411AD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ADF11-D674-41E8-BFF5-54E172D9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7AAEC-7A63-4D21-9EF0-38816862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7F5D8-DAF8-4207-8D21-E495CA2E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3B585-D22F-4B73-ABC9-7AA5A86D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7F1DF-E1E7-40AD-BC8D-9243B6A0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0B91E-E4D9-4DD5-A46B-301426E9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51D04-362F-4364-B98F-C8750006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57AC4-7557-4091-A696-C1879011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B2784-F641-4A2A-93BE-53D55137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73464-2A6C-4822-8F19-592C4378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B9B-3610-447E-8FF1-86F96457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32DC6-9E39-4073-B1AA-85A792D3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18320-C78F-4A2C-9CFC-F329A765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42D92-9241-4EE1-AE25-52512B09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2BD60-509D-441D-A4A4-1F6231C5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2C444-B3C6-4BF8-9483-DFB789A7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34F2D-8086-411E-8D84-C2DE60F1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46D31-8D2C-4112-985F-5A40AC2B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B3F95-45F6-4434-864B-75337608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CC35A-C032-4945-B85F-5D9AD0BC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38601-1AA9-44F3-B7EC-25A7432B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B27-331B-4EE3-8F20-3D053993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E5D64-1FFA-446F-80ED-C58D24AF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DE212-14C4-440D-8407-08088D1D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F16C4-71CA-41A9-B2C1-52FC931F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59F15-3343-48E0-ADBE-C06105B2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7755F-010A-41ED-848F-712953F8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76860-A3BD-4997-8ECE-AC86A076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91729-1B7B-4DF9-A388-C2D71852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0CDC9-6FF8-4869-8153-F0821F2E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FB377-CB12-4F34-9DAA-CC3C6E0D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48CA3-98A1-4FBC-B738-FF3F887B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DA00-1B49-49BD-8AE6-ADF30FA01D5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6CA6-FC8A-4031-B316-EC2E2BFB677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BAC7-6DD3-4858-95FD-4C338727586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093D-855D-493C-A5D0-49EBE4132E0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920B-1D82-4FB9-A049-942DC379207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A01E-27CC-43C5-9CBF-8621596BDA2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435E-7705-436E-8AB3-69C40481950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FB0B-ACD3-4B62-99B4-60201BD01D8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EB13-F864-4CBA-89B3-E8243B445CC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ADDB-3229-408C-A6F8-BF4C22854AA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924E-9D2D-42EC-841D-A4799829F3A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23C5-DF8A-4BB1-9098-35C84E32DC5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DD89-3B02-4399-B384-560FE2F70D8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класс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: 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3058920" y="3885840"/>
            <a:ext cx="439236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 Золотухина О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ОУ «СОШ№71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Пер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Прямоугольник 3" descr=""/>
          <p:cNvPicPr/>
          <p:nvPr/>
        </p:nvPicPr>
        <p:blipFill>
          <a:blip r:embed="rId2"/>
          <a:stretch/>
        </p:blipFill>
        <p:spPr>
          <a:xfrm>
            <a:off x="244440" y="2023920"/>
            <a:ext cx="8655120" cy="7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это домашнее животн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7056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9944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гласных и согласных звуков в сло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72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слогов в слов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ая соединительная линия 4"/>
          <p:cNvSpPr/>
          <p:nvPr/>
        </p:nvSpPr>
        <p:spPr>
          <a:xfrm flipH="1">
            <a:off x="5003280" y="1989000"/>
            <a:ext cx="36036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Арка 8"/>
          <p:cNvSpPr/>
          <p:nvPr/>
        </p:nvSpPr>
        <p:spPr>
          <a:xfrm flipV="1">
            <a:off x="2987640" y="3429000"/>
            <a:ext cx="914400" cy="216000"/>
          </a:xfrm>
          <a:custGeom>
            <a:avLst/>
            <a:gdLst>
              <a:gd name="textAreaLeft" fmla="*/ 0 w 914400"/>
              <a:gd name="textAreaRight" fmla="*/ 914760 w 914400"/>
              <a:gd name="textAreaTop" fmla="*/ 0 h 216000"/>
              <a:gd name="textAreaBottom" fmla="*/ 108000 h 216000"/>
            </a:gdLst>
            <a:ahLst/>
            <a:rect l="textAreaLeft" t="textAreaTop" r="textAreaRight" b="textAreaBottom"/>
            <a:pathLst>
              <a:path w="914400" h="215900">
                <a:moveTo>
                  <a:pt x="0" y="107949"/>
                </a:moveTo>
                <a:lnTo>
                  <a:pt x="0" y="107949"/>
                </a:lnTo>
                <a:arcTo wR="457200" hR="107950" stAng="-10799992" swAng="10800000"/>
                <a:lnTo>
                  <a:pt x="860425" y="107950"/>
                </a:lnTo>
                <a:lnTo>
                  <a:pt x="860425" y="107950"/>
                </a:lnTo>
                <a:arcTo wR="403225" hR="53975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Арка 9"/>
          <p:cNvSpPr/>
          <p:nvPr/>
        </p:nvSpPr>
        <p:spPr>
          <a:xfrm flipV="1">
            <a:off x="4067280" y="3357720"/>
            <a:ext cx="914400" cy="358560"/>
          </a:xfrm>
          <a:custGeom>
            <a:avLst/>
            <a:gdLst>
              <a:gd name="textAreaLeft" fmla="*/ 0 w 914400"/>
              <a:gd name="textAreaRight" fmla="*/ 914760 w 914400"/>
              <a:gd name="textAreaTop" fmla="*/ 0 h 358560"/>
              <a:gd name="textAreaBottom" fmla="*/ 179280 h 358560"/>
            </a:gdLst>
            <a:ahLst/>
            <a:rect l="textAreaLeft" t="textAreaTop" r="textAreaRight" b="textAreaBottom"/>
            <a:pathLst>
              <a:path w="914400" h="358775">
                <a:moveTo>
                  <a:pt x="0" y="179387"/>
                </a:moveTo>
                <a:lnTo>
                  <a:pt x="0" y="179387"/>
                </a:lnTo>
                <a:arcTo wR="457200" hR="179388" stAng="-10799992" swAng="10800000"/>
                <a:lnTo>
                  <a:pt x="824706" y="179388"/>
                </a:lnTo>
                <a:lnTo>
                  <a:pt x="824706" y="179388"/>
                </a:lnTo>
                <a:arcTo wR="367506" hR="89694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Арка 10"/>
          <p:cNvSpPr/>
          <p:nvPr/>
        </p:nvSpPr>
        <p:spPr>
          <a:xfrm flipV="1">
            <a:off x="5219640" y="3429000"/>
            <a:ext cx="914400" cy="287280"/>
          </a:xfrm>
          <a:custGeom>
            <a:avLst/>
            <a:gdLst>
              <a:gd name="textAreaLeft" fmla="*/ 0 w 914400"/>
              <a:gd name="textAreaRight" fmla="*/ 914760 w 914400"/>
              <a:gd name="textAreaTop" fmla="*/ 360 h 287280"/>
              <a:gd name="textAreaBottom" fmla="*/ 144000 h 287280"/>
            </a:gdLst>
            <a:ahLst/>
            <a:rect l="textAreaLeft" t="textAreaTop" r="textAreaRight" b="textAreaBottom"/>
            <a:pathLst>
              <a:path w="914400" h="287338">
                <a:moveTo>
                  <a:pt x="0" y="143668"/>
                </a:moveTo>
                <a:lnTo>
                  <a:pt x="0" y="143668"/>
                </a:lnTo>
                <a:arcTo wR="457200" hR="143669" stAng="-10799992" swAng="10800000"/>
                <a:lnTo>
                  <a:pt x="842566" y="143669"/>
                </a:lnTo>
                <a:lnTo>
                  <a:pt x="842566" y="143669"/>
                </a:lnTo>
                <a:arcTo wR="385366" hR="71835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635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на изображении коровы можно найти букву «О»?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раз она вам встретила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7632720" cy="4319640"/>
          </a:xfrm>
          <a:prstGeom prst="rect">
            <a:avLst/>
          </a:prstGeom>
          <a:ln w="0">
            <a:noFill/>
          </a:ln>
        </p:spPr>
      </p:pic>
      <p:cxnSp>
        <p:nvCxnSpPr>
          <p:cNvPr id="555" name="Прямая со стрелкой 5"/>
          <p:cNvCxnSpPr/>
          <p:nvPr/>
        </p:nvCxnSpPr>
        <p:spPr>
          <a:xfrm>
            <a:off x="4716000" y="1844280"/>
            <a:ext cx="72360" cy="2809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56" name="Прямая со стрелкой 9"/>
          <p:cNvCxnSpPr/>
          <p:nvPr/>
        </p:nvCxnSpPr>
        <p:spPr>
          <a:xfrm>
            <a:off x="3203640" y="2060280"/>
            <a:ext cx="216720" cy="266436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557" name="Прямая со стрелкой 12"/>
          <p:cNvCxnSpPr/>
          <p:nvPr/>
        </p:nvCxnSpPr>
        <p:spPr>
          <a:xfrm>
            <a:off x="971640" y="2204640"/>
            <a:ext cx="2232720" cy="331236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558" name="Прямая со стрелкой 17"/>
          <p:cNvCxnSpPr/>
          <p:nvPr/>
        </p:nvCxnSpPr>
        <p:spPr>
          <a:xfrm flipH="1">
            <a:off x="5651280" y="2421000"/>
            <a:ext cx="1800720" cy="18007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816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Напишите слово в тетради для словарной работ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Разделите слово для переноса, поставьте ударени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826920" y="2133360"/>
            <a:ext cx="72741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96872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иши грамот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тоб не обиделась корова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 не прокисло молоко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Должны запомнить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пишем только с буквой </a:t>
            </a: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8434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Шаблон презентации «Луг»// Федотова Виктория Александровна, учитель начальных классов МОУ СОШ с. Лохово Черемховского р-на Иркутской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В.В. Волина.Учимся играя. – М.: Новая школа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selnov-grahovo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coollady.ru/puc/4/korova/6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raskraska.eu/zhivotnye/korova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 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raskraska.eu/risunok/zhivotnye/korova/raskraska/korova-37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3:22:31Z</dcterms:created>
  <dc:creator>Сергей</dc:creator>
  <dc:description/>
  <dc:language>en-US</dc:language>
  <cp:lastModifiedBy>Сергей</cp:lastModifiedBy>
  <dcterms:modified xsi:type="dcterms:W3CDTF">2013-06-10T15:49:12Z</dcterms:modified>
  <cp:revision>42</cp:revision>
  <dc:subject/>
  <dc:title>Слайд 1</dc:title>
</cp:coreProperties>
</file>